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86E-F90D-4B29-9A29-5D68E2E5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421-B12B-44D6-B171-64E84BFA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DD0-53C7-4C65-A503-D1DDF56A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ED8-4252-461C-8B2F-D15EA8E7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945-02CD-4CB7-9746-77864F1D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399-B792-4887-8C71-82118CED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30D-FF4B-4D76-B29B-D54900E8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0C2-9C06-43A0-86C4-B166975A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95F-71C0-4127-AAF1-3239C4CE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7D6-81BD-45DC-A4A4-00A0D2F8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5098-D6D7-4F4D-B9FF-FF4D4883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67B-C952-4BCF-BF6F-1ACFC6C0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450A-6085-4FA2-905A-548E7EF52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s.wikipedia.org/wiki/Imagen:Dahlneal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es/imgres?imgurl=http://www.tdc.govt.nz/libraries/pics/xsdwhkirvz5ptcg2nksjya522pidff48eki.jpg&amp;imgrefurl=http://www.tdc.govt.nz/libraries/index.php%3FMurchisonLibraryPresentsRoaldDahlDay&amp;h=175&amp;w=200&amp;sz=11&amp;hl=es&amp;start=4&amp;tbnid=xWI8SGMh5XB-eM:&amp;tbnh=91&amp;tbnw=104&amp;prev=/images%3Fq%3Droald%2Bdalh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es/imgres?imgurl=http://dreamers.com/indices/imagenes/libros.254.IMAGEN1.jpg&amp;imgrefurl=http://dreamers.com/indices/foros.cgi%3Findice%3Dlibros/254%26mostrarforo&amp;h=300&amp;w=200&amp;sz=30&amp;hl=es&amp;start=5&amp;tbnid=xlJBXgY3iGQIXM:&amp;tbnh=116&amp;tbnw=77&amp;prev=/images%3Fq%3Droald%2Bdalh%26gbv%3D2%26hl%3Des%26sa%3D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s.google.es/imgres?imgurl=http://www.librarything.com/authorpics/dahlroald1598.jpg&amp;imgrefurl=http://www.librarything.com/author/dahlroald&amp;h=200&amp;w=143&amp;sz=25&amp;hl=es&amp;start=8&amp;tbnid=2Iver3aNrljf8M:&amp;tbnh=104&amp;tbnw=74&amp;prev=/images%3Fq%3Droald%2Bdalh%26gbv%3D2%26hl%3Des%26sa%3DG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sepiensa.org.mx/contenidos/2005/n_asecensordecristal/images/ascensorcristal_06.gif" TargetMode="External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2421000"/>
            <a:ext cx="6769080" cy="18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Roald Dahl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2009520" cy="184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00360" y="404640"/>
            <a:ext cx="1295280" cy="648000"/>
          </a:xfrm>
          <a:prstGeom prst="wedgeRoundRectCallout">
            <a:avLst>
              <a:gd name="adj1" fmla="val -112254"/>
              <a:gd name="adj2" fmla="val 45342"/>
              <a:gd name="adj3" fmla="val 16667"/>
            </a:avLst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00720" y="4653000"/>
            <a:ext cx="2009520" cy="1844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27640" y="4437000"/>
            <a:ext cx="1584360" cy="720720"/>
          </a:xfrm>
          <a:prstGeom prst="wedgeRoundRectCallout">
            <a:avLst>
              <a:gd name="adj1" fmla="val -85870"/>
              <a:gd name="adj2" fmla="val 70046"/>
              <a:gd name="adj3" fmla="val 16667"/>
            </a:avLst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79640" y="476280"/>
            <a:ext cx="475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Biography: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1413000"/>
            <a:ext cx="216000" cy="21564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1916280"/>
            <a:ext cx="216000" cy="21744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2276640"/>
            <a:ext cx="289080" cy="21564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2997360"/>
            <a:ext cx="215640" cy="21564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4005360"/>
            <a:ext cx="289080" cy="28872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4724280"/>
            <a:ext cx="216000" cy="28908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1413000"/>
            <a:ext cx="64008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He was born  13th of september in 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He began to write in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He married Patricia L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He died of leukaemia on 23 th November,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Roald Dahl y Patricia Neal, fotografiados por Carl van Vechten, 20 de abril de 1954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2781360"/>
            <a:ext cx="1225440" cy="172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6300720" y="3715920"/>
            <a:ext cx="35892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547640" y="549360"/>
            <a:ext cx="604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Important Works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1916280"/>
            <a:ext cx="358920" cy="36036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2852640"/>
            <a:ext cx="360360" cy="36036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3645000"/>
            <a:ext cx="358920" cy="28728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4581360"/>
            <a:ext cx="432000" cy="36036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5589720"/>
            <a:ext cx="360360" cy="36036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1628640"/>
            <a:ext cx="7150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The Fantastic Mr. Fo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191628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Charlie and the Chocolate Factor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285264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Mati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67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10160" y="45360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The 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554400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James and the Giant P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55640" y="620640"/>
            <a:ext cx="7129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Photos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  <p:pic>
        <p:nvPicPr>
          <p:cNvPr id="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0210400">
            <a:off x="899640" y="2276280"/>
            <a:ext cx="1584360" cy="1215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 rot="20616600">
            <a:off x="7308360" y="1412640"/>
            <a:ext cx="119556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4720" y="4797360"/>
            <a:ext cx="1366920" cy="1657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 rot="19456800">
            <a:off x="1512360" y="4593960"/>
            <a:ext cx="1527480" cy="1508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 rot="2431800">
            <a:off x="6588000" y="4653000"/>
            <a:ext cx="1781280" cy="1714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916360" y="1557360"/>
            <a:ext cx="3333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00000" y="2205000"/>
            <a:ext cx="7128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By: Débora del Reino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19919400">
            <a:off x="1258920" y="549000"/>
            <a:ext cx="1368360" cy="151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20967000">
            <a:off x="4716000" y="4581000"/>
            <a:ext cx="17337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00:52Z</dcterms:created>
  <dc:creator>Alumno47</dc:creator>
  <dc:description/>
  <dc:language>en-US</dc:language>
  <cp:lastModifiedBy>Los Tilos</cp:lastModifiedBy>
  <dcterms:modified xsi:type="dcterms:W3CDTF">2008-06-10T11:27:08Z</dcterms:modified>
  <cp:revision>6</cp:revision>
  <dc:subject/>
  <dc:title>Diapositiva 1</dc:title>
</cp:coreProperties>
</file>